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E98-D1B9-4AF8-9C4A-2D6252EF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779-3874-4A61-8214-F343E9B7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E09-E827-46FB-8814-85E62BFA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DEE-DC34-462A-BD63-7486A2C8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5C6-562F-4961-878F-A9B47F65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112-EA76-4684-B08D-321941A6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11D-83DF-4525-8B74-C2DD9498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E30-D2EB-4352-963B-FF1CFE35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9C9F-CF0E-42B5-B30E-8EB81754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8E9-A158-4BF4-8D49-D1C8FAA1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49C-30D8-4B81-9146-068C8EE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E19-79F2-4A1C-87A9-53F00C01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0B7C-05AE-407B-871B-79CD9CC1F11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r, We Would See Jesus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9, Lesson 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83-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9:33-37; Matt. 18:15-35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. 8:19-22; John 7:2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42B-E449-4AD2-9D6A-A28AED719BC9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s of Discipleship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t. 8:19-22; Luke 9:57-6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’s service to Christ is so important it must come before all earthly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forts of the temporal life are second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 responsibilities are second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e dead (spiritually dead) bury the dead (natural de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ose of the house take care of the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ffairs and responsibilities of life cannot interfere with spiritual services we owe Chris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1E9-6C68-4A32-BD9E-09B8C56CDB7A}" type="slidenum">
              <a:t>10</a:t>
            </a:fld>
          </a:p>
        </p:txBody>
      </p:sp>
    </p:spTree>
  </p:cSld>
  <p:transition>
    <p:blinds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 Time Has Not Yet Come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hn 7:2-9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as still in Gali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east of Tabernacles was at h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brothers encouraged Him to go to Judea to let everyone see Him and His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brothers did not believe at this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is:  James, Jesus’ brother (Gal. 1:19) was later an elder at Jerusalem and wrote the book of “James,” and His brother Jude wrote the book of “Jude” (Jude 1: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630-1E56-4B0C-875C-B33B37098C06}" type="slidenum">
              <a:t>11</a:t>
            </a:fld>
          </a:p>
        </p:txBody>
      </p:sp>
    </p:spTree>
  </p:cSld>
  <p:transition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y Time Has Not Yet Come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hn 7:2-9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Jesus said to them,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y time has not yet come, but your time is always ready.  The world cannot hate you, but it hates Me because I testify of it that its works are evil.  You go up to this feast.  I am not yet going up to this feast, for My time has not yet fully come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v. 6-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remained in Galilee a little lo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2DA-616B-4B08-A4B6-62E266898F6A}" type="slidenum">
              <a:t>12</a:t>
            </a:fld>
          </a:p>
        </p:txBody>
      </p:sp>
    </p:spTree>
  </p:cSld>
  <p:transition>
    <p:blinds dir="ver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esus Goes To Jerusalem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hn 7:10; Luke 9:51-5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brethren went ahead to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, Jesus and His disciples went, but not ope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amaritan village would not accept Him – they knew He was going to the f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nt on to another vil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lesson – Jesus enters Jerusalem -  opposition toward Him becomes stro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5181480"/>
            <a:ext cx="30481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EF0-1F2D-48D0-90BD-38A8D65C695A}" type="slidenum">
              <a:t>13</a:t>
            </a:fld>
          </a:p>
        </p:txBody>
      </p:sp>
    </p:spTree>
  </p:cSld>
  <p:transition>
    <p:blinds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of Chris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752480"/>
            <a:ext cx="3886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Quar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of Min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F5A-3C12-4E18-94B9-3F245FEA0760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5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sciples Found Disputing 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9:33-37; Matt. 18:1-5; Luke 9:46-48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:  Which of them would be greatest in the kingdom of heav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explained greates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 of a little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be converted as a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rvant of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hat is least shall be gr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ceive Christ is to receive the 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896-425F-4FBF-8AE3-27408FD21AB6}" type="slidenum">
              <a:t>3</a:t>
            </a:fld>
          </a:p>
        </p:txBody>
      </p:sp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oe To Those Who Offend Others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9:42-48; Matt. 18:6-1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ose who offend believer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o cause believers to sin)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t is be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a millstone were hanged around your neck and be thrown into the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t is be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 your hand or foot offend you to cut them off and to go through life maimed rather than being cast into everlasting 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t is be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 you pluck out your eye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..woe to that man by whom the offense comes!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att. 18: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BFF-BD86-4FF6-B2C8-0270A32F6D83}" type="slidenum">
              <a:t>4</a:t>
            </a:fld>
          </a:p>
        </p:txBody>
      </p:sp>
    </p:spTree>
  </p:cSld>
  <p:transition>
    <p:blinds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arable of the Lost Sheep 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t. 18:11-14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. 18:11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For the Son of Man has come to save that which was lost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epherd rejoiced over finding one lost sh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wise, it is not God’s will that any of these “little ones” be l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ones” refer to those believers following Jesus (verse 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7C4-42A8-4295-8DBA-6D62C3576363}" type="slidenum">
              <a:t>5</a:t>
            </a:fld>
          </a:p>
        </p:txBody>
      </p:sp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aling With Trespasses 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t. 18:15-2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r brother sins against yo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to him in private (alone) with the 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he does not listen, take one or two  witnesses to confirm your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he still does not listen, you and the witnesses must tell it to the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urch must then go to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is procedure fails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no further religious fellowship with him (or h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58C-6DEB-4F1B-BAC2-F41591093328}" type="slidenum">
              <a:t>6</a:t>
            </a:fld>
          </a:p>
        </p:txBody>
      </p:sp>
    </p:spTree>
  </p:cSld>
  <p:transition>
    <p:blinds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aling With Forgiveness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t. 18:21-2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er’s questions to Jes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often must we forgive a broth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 tim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respon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seventy times seve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 back: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Blessed are the merciful: for they shall receive mercy.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att. 5: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9F7-C0E2-4A39-B37F-9043CAA1C735}" type="slidenum">
              <a:t>7</a:t>
            </a:fld>
          </a:p>
        </p:txBody>
      </p:sp>
    </p:spTree>
  </p:cSld>
  <p:transition>
    <p:blinds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Parable On Forgiveness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t. 18:23-35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ertain king took his servants into account (a reckoning of their deb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wed him 10,000 tal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rvant had no way to p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g wanted to sell him and his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rvant begged for patience in paying him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g had compassion and forgave the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servant threatened another who owed him only a hundred p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rvant did not show compassion and put the debtor in j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D7E-B623-4CBD-8C33-F5C44FFB2143}" type="slidenum">
              <a:t>8</a:t>
            </a:fld>
          </a:p>
        </p:txBody>
      </p:sp>
    </p:spTree>
  </p:cSld>
  <p:transition>
    <p:blinds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Parable On Forgiveness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t. 18:23-35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g was told what was d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called for the wicked serv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g was full of wr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rvant was tormented until all of his former debt was p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ral of the parable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 My heavenly Father also will do to you if each of you, from his heart, does not forgive his brother his trespasses.”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att. 18:3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336-E141-4C35-921E-9E7950ACBFD7}" type="slidenum">
              <a:t>9</a:t>
            </a:fld>
          </a:p>
        </p:txBody>
      </p:sp>
    </p:spTree>
  </p:cSld>
  <p:transition>
    <p:blinds dir="ver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23:14:09Z</dcterms:created>
  <dc:creator>Frank D Vines</dc:creator>
  <dc:description/>
  <dc:language>en-US</dc:language>
  <cp:lastModifiedBy>Frank D Vines</cp:lastModifiedBy>
  <dcterms:modified xsi:type="dcterms:W3CDTF">2006-09-27T23:38:16Z</dcterms:modified>
  <cp:revision>30</cp:revision>
  <dc:subject/>
  <dc:title>“Sir, We Would See Jesus”</dc:title>
</cp:coreProperties>
</file>